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6.jpeg" ContentType="image/jpeg"/>
  <Override PartName="/ppt/media/image15.wmf" ContentType="image/x-wmf"/>
  <Override PartName="/ppt/media/image45.jpeg" ContentType="image/jpeg"/>
  <Override PartName="/ppt/media/image48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8.jpeg" ContentType="image/jpeg"/>
  <Override PartName="/ppt/media/image2.jpeg" ContentType="image/jpeg"/>
  <Override PartName="/ppt/media/image47.png" ContentType="image/png"/>
  <Override PartName="/ppt/media/image1.jpeg" ContentType="image/jpeg"/>
  <Override PartName="/ppt/media/image21.png" ContentType="image/png"/>
  <Override PartName="/ppt/media/image41.jpeg" ContentType="image/jpeg"/>
  <Override PartName="/ppt/media/image14.jpeg" ContentType="image/jpeg"/>
  <Override PartName="/ppt/media/image17.png" ContentType="image/png"/>
  <Override PartName="/ppt/media/image32.jpeg" ContentType="image/jpeg"/>
  <Override PartName="/ppt/media/image22.png" ContentType="image/png"/>
  <Override PartName="/ppt/media/image2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44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9.jpeg" ContentType="image/jpeg"/>
  <Override PartName="/ppt/media/image67.wmf" ContentType="image/x-wmf"/>
  <Override PartName="/ppt/media/image33.jpeg" ContentType="image/jpeg"/>
  <Override PartName="/ppt/media/image68.wmf" ContentType="image/x-wmf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66.wmf" ContentType="image/x-wmf"/>
  <Override PartName="/ppt/media/image63.jpeg" ContentType="image/jpeg"/>
  <Override PartName="/ppt/media/image61.jpeg" ContentType="image/jpeg"/>
  <Override PartName="/ppt/media/image4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52.png" ContentType="image/png"/>
  <Override PartName="/ppt/media/image25.jpeg" ContentType="image/jpeg"/>
  <Override PartName="/ppt/media/image2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16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36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4.png" ContentType="image/png"/>
  <Override PartName="/ppt/media/image64.jpeg" ContentType="image/jpeg"/>
  <Override PartName="/ppt/media/image3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5DE-6E97-45D4-AF35-BFA72352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B24-35C0-477C-B782-D2B69592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901-90A3-423F-8E43-D746A848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D95-6024-4545-BAFA-99411792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2BE-E894-4E8F-AC9E-3B1CE1B8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5BF-72D8-4C39-957F-04692558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F07-3E3C-4735-B36E-5FB6776B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D1C-495A-4F74-93F2-619A7AB7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4BC-9794-4F8D-9BFE-EB8AB1B5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B04-EC9A-4C11-8F75-3DF2594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82F-FC19-4580-AAAB-4E41D5F4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103-24E9-4362-81E0-638AABD9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AF91-A9D3-411C-9C79-F70347406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altzapoved" TargetMode="External"/><Relationship Id="rId2" Type="http://schemas.openxmlformats.org/officeDocument/2006/relationships/hyperlink" Target="http://www.flickr.com/photos/altzapoved" TargetMode="External"/><Relationship Id="rId3" Type="http://schemas.openxmlformats.org/officeDocument/2006/relationships/hyperlink" Target="http://www.flickr.com/photos/altzapoved" TargetMode="External"/><Relationship Id="rId4" Type="http://schemas.openxmlformats.org/officeDocument/2006/relationships/hyperlink" Target="http://www.flickr.com/photos/altzapoved" TargetMode="External"/><Relationship Id="rId5" Type="http://schemas.openxmlformats.org/officeDocument/2006/relationships/hyperlink" Target="http://www.flickr.com/photos/altzapoved" TargetMode="External"/><Relationship Id="rId6" Type="http://schemas.openxmlformats.org/officeDocument/2006/relationships/hyperlink" Target="http://www.flickr.com/photos/altzapoved" TargetMode="External"/><Relationship Id="rId7" Type="http://schemas.openxmlformats.org/officeDocument/2006/relationships/hyperlink" Target="http://www.flickr.com/photos/altzapoved" TargetMode="External"/><Relationship Id="rId8" Type="http://schemas.openxmlformats.org/officeDocument/2006/relationships/hyperlink" Target="http://altzapoved.livejournal.com/" TargetMode="External"/><Relationship Id="rId9" Type="http://schemas.openxmlformats.org/officeDocument/2006/relationships/hyperlink" Target="http://altzapoved.livejournal.com/" TargetMode="External"/><Relationship Id="rId10" Type="http://schemas.openxmlformats.org/officeDocument/2006/relationships/hyperlink" Target="http://altzapoved.livejournal.com/" TargetMode="External"/><Relationship Id="rId11" Type="http://schemas.openxmlformats.org/officeDocument/2006/relationships/hyperlink" Target="http://altzapoved.livejournal.com/" TargetMode="External"/><Relationship Id="rId12" Type="http://schemas.openxmlformats.org/officeDocument/2006/relationships/hyperlink" Target="http://community.livejournal.com/yailu" TargetMode="External"/><Relationship Id="rId13" Type="http://schemas.openxmlformats.org/officeDocument/2006/relationships/hyperlink" Target="http://community.livejournal.com/yailu" TargetMode="External"/><Relationship Id="rId14" Type="http://schemas.openxmlformats.org/officeDocument/2006/relationships/hyperlink" Target="http://community.livejournal.com/yailu" TargetMode="External"/><Relationship Id="rId15" Type="http://schemas.openxmlformats.org/officeDocument/2006/relationships/hyperlink" Target="http://community.livejournal.com/yailu" TargetMode="External"/><Relationship Id="rId16" Type="http://schemas.openxmlformats.org/officeDocument/2006/relationships/hyperlink" Target="http://community.livejournal.com/yailu" TargetMode="External"/><Relationship Id="rId17" Type="http://schemas.openxmlformats.org/officeDocument/2006/relationships/hyperlink" Target="http://my.mail.ru/community/altzapoved/" TargetMode="External"/><Relationship Id="rId18" Type="http://schemas.openxmlformats.org/officeDocument/2006/relationships/hyperlink" Target="http://my.mail.ru/community/altzapoved/" TargetMode="External"/><Relationship Id="rId19" Type="http://schemas.openxmlformats.org/officeDocument/2006/relationships/hyperlink" Target="http://my.mail.ru/community/altzapoved/" TargetMode="External"/><Relationship Id="rId20" Type="http://schemas.openxmlformats.org/officeDocument/2006/relationships/hyperlink" Target="http://my.mail.ru/community/altzapoved/" TargetMode="External"/><Relationship Id="rId21" Type="http://schemas.openxmlformats.org/officeDocument/2006/relationships/hyperlink" Target="http://my.mail.ru/community/altzapoved/" TargetMode="External"/><Relationship Id="rId22" Type="http://schemas.openxmlformats.org/officeDocument/2006/relationships/hyperlink" Target="http://my.mail.ru/community/altzapoved/" TargetMode="External"/><Relationship Id="rId23" Type="http://schemas.openxmlformats.org/officeDocument/2006/relationships/hyperlink" Target="http://my.mail.ru/community/altzapoved/" TargetMode="External"/><Relationship Id="rId24" Type="http://schemas.openxmlformats.org/officeDocument/2006/relationships/hyperlink" Target="http://my.mail.ru/community/altzapoved/" TargetMode="External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2.pn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56.jpeg"/><Relationship Id="rId11" Type="http://schemas.openxmlformats.org/officeDocument/2006/relationships/image" Target="../media/image58.jpeg"/><Relationship Id="rId12" Type="http://schemas.openxmlformats.org/officeDocument/2006/relationships/image" Target="../media/image60.jpeg"/><Relationship Id="rId13" Type="http://schemas.openxmlformats.org/officeDocument/2006/relationships/image" Target="../media/image61.jpeg"/><Relationship Id="rId14" Type="http://schemas.openxmlformats.org/officeDocument/2006/relationships/image" Target="../media/image62.jpeg"/><Relationship Id="rId15" Type="http://schemas.openxmlformats.org/officeDocument/2006/relationships/image" Target="../media/image63.jpeg"/><Relationship Id="rId16" Type="http://schemas.openxmlformats.org/officeDocument/2006/relationships/image" Target="../media/image55.jpeg"/><Relationship Id="rId17" Type="http://schemas.openxmlformats.org/officeDocument/2006/relationships/image" Target="../media/image52.png"/><Relationship Id="rId18" Type="http://schemas.openxmlformats.org/officeDocument/2006/relationships/image" Target="../media/image56.jpeg"/><Relationship Id="rId19" Type="http://schemas.openxmlformats.org/officeDocument/2006/relationships/image" Target="../media/image52.png"/><Relationship Id="rId20" Type="http://schemas.openxmlformats.org/officeDocument/2006/relationships/image" Target="../media/image55.jpeg"/><Relationship Id="rId21" Type="http://schemas.openxmlformats.org/officeDocument/2006/relationships/image" Target="../media/image58.jpeg"/><Relationship Id="rId22" Type="http://schemas.openxmlformats.org/officeDocument/2006/relationships/image" Target="../media/image56.jpeg"/><Relationship Id="rId23" Type="http://schemas.openxmlformats.org/officeDocument/2006/relationships/image" Target="../media/image52.png"/><Relationship Id="rId24" Type="http://schemas.openxmlformats.org/officeDocument/2006/relationships/image" Target="../media/image55.jpeg"/><Relationship Id="rId25" Type="http://schemas.openxmlformats.org/officeDocument/2006/relationships/image" Target="../media/image58.jpeg"/><Relationship Id="rId26" Type="http://schemas.openxmlformats.org/officeDocument/2006/relationships/image" Target="../media/image56.jpeg"/><Relationship Id="rId27" Type="http://schemas.openxmlformats.org/officeDocument/2006/relationships/image" Target="../media/image55.jpeg"/><Relationship Id="rId28" Type="http://schemas.openxmlformats.org/officeDocument/2006/relationships/image" Target="../media/image52.png"/><Relationship Id="rId29" Type="http://schemas.openxmlformats.org/officeDocument/2006/relationships/image" Target="../media/image64.jpeg"/><Relationship Id="rId30" Type="http://schemas.openxmlformats.org/officeDocument/2006/relationships/image" Target="../media/image58.jpeg"/><Relationship Id="rId31" Type="http://schemas.openxmlformats.org/officeDocument/2006/relationships/image" Target="../media/image64.jpeg"/><Relationship Id="rId32" Type="http://schemas.openxmlformats.org/officeDocument/2006/relationships/image" Target="../media/image64.jpeg"/><Relationship Id="rId33" Type="http://schemas.openxmlformats.org/officeDocument/2006/relationships/image" Target="../media/image65.jpeg"/><Relationship Id="rId34" Type="http://schemas.openxmlformats.org/officeDocument/2006/relationships/image" Target="../media/image65.jpeg"/><Relationship Id="rId3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hyperlink" Target="mailto:agpzmain@mail.ru" TargetMode="External"/><Relationship Id="rId3" Type="http://schemas.openxmlformats.org/officeDocument/2006/relationships/hyperlink" Target="mailto:agpzmain@mail.ru" TargetMode="External"/><Relationship Id="rId4" Type="http://schemas.openxmlformats.org/officeDocument/2006/relationships/hyperlink" Target="mailto:agpzmain@mail.ru" TargetMode="External"/><Relationship Id="rId5" Type="http://schemas.openxmlformats.org/officeDocument/2006/relationships/hyperlink" Target="http://www.altzapovednik.ru/" TargetMode="External"/><Relationship Id="rId6" Type="http://schemas.openxmlformats.org/officeDocument/2006/relationships/hyperlink" Target="http://www.altzapovednik.ru/" TargetMode="External"/><Relationship Id="rId7" Type="http://schemas.openxmlformats.org/officeDocument/2006/relationships/hyperlink" Target="http://www.altzapovednik.ru/" TargetMode="External"/><Relationship Id="rId8" Type="http://schemas.openxmlformats.org/officeDocument/2006/relationships/hyperlink" Target="http://www.altzapovednik.ru/" TargetMode="External"/><Relationship Id="rId9" Type="http://schemas.openxmlformats.org/officeDocument/2006/relationships/hyperlink" Target="http://www.sledmedved.ning.com/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276280"/>
            <a:ext cx="67672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Практический опыт эколого-просветительской работы </a:t>
            </a: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в Алтайском заповед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465300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лм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о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ячеславо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-2060" t="0" r="2070" b="2118"/>
          <a:stretch/>
        </p:blipFill>
        <p:spPr>
          <a:xfrm>
            <a:off x="0" y="0"/>
            <a:ext cx="1908000" cy="186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16360" y="692280"/>
            <a:ext cx="52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тайский биосферный 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189000"/>
            <a:ext cx="64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ерство природных ресурсов и эк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6308640"/>
            <a:ext cx="259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сноярск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5157720"/>
            <a:ext cx="8820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м правом в обслуживании посетителей маршрута обладают жители пос. Яйлю. В настоящее время на Корбу предоставлено местным жителям около 20-ти рабочих ме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гласно официальным данным (2011г), уровень безработицы в пос. Яйлю составляет 0 % при уровне безработицы в Турочакском районе – 3,16 %, в Республике Алтай – 3,35 % и в России – 7,5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923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нятость местно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24360" y="1268280"/>
            <a:ext cx="4753080" cy="316260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3024360" cy="40323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948360" y="6453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то – В.Кан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елёные» гостевые дома в заповедных посёл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4581360"/>
            <a:ext cx="4321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. Яйлю, Беле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доны: размещение и питание посетителей у местных ж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ос. Яйлю – 50-60 гостевых ме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5809" t="0" r="0" b="0"/>
          <a:stretch/>
        </p:blipFill>
        <p:spPr>
          <a:xfrm>
            <a:off x="395280" y="765000"/>
            <a:ext cx="4464000" cy="327672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076720" y="692280"/>
            <a:ext cx="3311640" cy="24494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219640" y="3284640"/>
            <a:ext cx="3046320" cy="33843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843280" y="6453360"/>
            <a:ext cx="21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С.Щигрева, И.Калм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аимодействие со СМ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сс-цент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тайского запов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332000" y="1484280"/>
          <a:ext cx="6408720" cy="39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484280"/>
                    <a:ext cx="640872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95280" y="5516640"/>
            <a:ext cx="8229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2009 году в Алтайском заповеднике официально создан Пресс-центр по взаимодействию со СМИ. В настоящее время база рассылки Пресс-центра содержит 83 электронных адреса СМИ разного уров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сс-релиз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48360" y="2349000"/>
            <a:ext cx="790560" cy="57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3789360"/>
            <a:ext cx="935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356000" y="2133720"/>
            <a:ext cx="0" cy="790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340000" y="2852280"/>
            <a:ext cx="936720" cy="647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484360" y="4076640"/>
            <a:ext cx="719280" cy="28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700280"/>
            <a:ext cx="2594160" cy="108108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ечатные и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з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170028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нет-сай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88000" y="3284640"/>
            <a:ext cx="2160720" cy="100800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елеви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 рад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1052640"/>
            <a:ext cx="2519280" cy="93816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гент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789360"/>
            <a:ext cx="2162160" cy="107964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аз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5013360"/>
            <a:ext cx="2736720" cy="93672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ый арх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хронология собы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тчё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40000" y="4724280"/>
            <a:ext cx="144360" cy="649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5445000"/>
            <a:ext cx="3024360" cy="93672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сетители, участ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овещаний, семин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4437000"/>
            <a:ext cx="86364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2376360" cy="18842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64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нк пресс-ре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907920"/>
            <a:ext cx="4103640" cy="5472360"/>
          </a:xfrm>
          <a:prstGeom prst="rect">
            <a:avLst/>
          </a:prstGeom>
          <a:solidFill>
            <a:srgbClr val="c0c0c0">
              <a:alpha val="1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32000" y="90792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едеральное государственное учрежд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«Алтайский государственный природны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иосферный заповедник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tzapovednik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1484280"/>
            <a:ext cx="165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За дополнительной информацие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обращаться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(388-22) 2-14-19, 8-906-970-24-4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ecoprosvet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Светлана Щигрев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220500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Дата выпуска: 03 октября  2011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год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Место выпуска: г. Горно-Алтайск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Республика Алтай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2637000"/>
            <a:ext cx="1800360" cy="433080"/>
          </a:xfrm>
          <a:prstGeom prst="rect">
            <a:avLst/>
          </a:prstGeom>
          <a:solidFill>
            <a:srgbClr val="bbe0e3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СС-РЕ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4653000"/>
          <a:ext cx="4103640" cy="1655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ский государственный природный заповедник образован в 1932 году и является природоохранным, научно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м и эколого-просветительским учреждением федерального значения. Основная цель создания –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и изучение естественного хода природных процессов и явлений, генетического фонда растительног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животного мира, отдельных видов и сообществ растений и животных, типичных и уникальных экологических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. Это особо охраняемая природная территория с площадью 881238 га, включающая часть акватории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цкого озера. По количеству видов сосудистых растений Алтайский заповедник занимает 2 место в России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и всех заповедников и находится в 5-ке заповедников по видовому разнообразию (количеству видов живых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мов). Алтайский заповедник и Телецкое озеро являются объектами Всемирного природного Наслед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ЕСКО в номинации «Алтай - Золотые горы» (с 1998 года). 26 мая 2009 года Алтайскому заповеднику присвоен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сферный статус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ые данные:  649000 Республика Алтай, г. Горно-Алтайск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Коммунистический – 1,  а/я 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/факс: (388-22) 2-14-19  E-mail: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pzmain@rambler.ru</a:t>
                      </a: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сайты: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ww.altzapovednik.ru</a:t>
                      </a: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ww.altzapoved.r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т Движения Друзей Алтайского заповедника "След Медведя": www.sledmedved.ning.co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Алтайского заповедника: Калмыков Игорь Вячеславович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219640" y="2421000"/>
            <a:ext cx="3600360" cy="2448000"/>
          </a:xfrm>
          <a:prstGeom prst="rect">
            <a:avLst/>
          </a:prstGeom>
          <a:solidFill>
            <a:srgbClr val="c0c0c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тактные данные запов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ту вы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раткую историю запов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ь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щадь запов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тус и номин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1268280"/>
            <a:ext cx="2665440" cy="865440"/>
          </a:xfrm>
          <a:prstGeom prst="rect">
            <a:avLst/>
          </a:prstGeom>
          <a:solidFill>
            <a:srgbClr val="c0c0c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ланк пресс-рели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сег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держ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4581360"/>
            <a:ext cx="3240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ажно указывать источ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спользованной информ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вторство фо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31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хема-пример распространения пресс-ре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349360"/>
            <a:ext cx="2232000" cy="1944720"/>
          </a:xfrm>
          <a:prstGeom prst="ellipse">
            <a:avLst/>
          </a:prstGeom>
          <a:solidFill>
            <a:srgbClr val="c0c0c0">
              <a:alpha val="25000"/>
            </a:srgbClr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 электро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р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база да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1557360"/>
            <a:ext cx="0" cy="719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836640"/>
            <a:ext cx="4248360" cy="719280"/>
          </a:xfrm>
          <a:prstGeom prst="rect">
            <a:avLst/>
          </a:prstGeom>
          <a:solidFill>
            <a:srgbClr val="c0c0c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пресс-релиз = наприме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проведении Школы госинспект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1700280"/>
            <a:ext cx="2376720" cy="2374920"/>
          </a:xfrm>
          <a:prstGeom prst="ellipse">
            <a:avLst/>
          </a:prstGeom>
          <a:solidFill>
            <a:srgbClr val="c0c0c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Агентст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ИТ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НКФА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ТАПРЕ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ТАР-Т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А-НОВ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мн.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5950080"/>
            <a:ext cx="1152720" cy="792000"/>
          </a:xfrm>
          <a:prstGeom prst="ellipse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М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ите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35640" y="4076640"/>
            <a:ext cx="1728720" cy="1368360"/>
          </a:xfrm>
          <a:prstGeom prst="ellipse">
            <a:avLst/>
          </a:prstGeom>
          <a:solidFill>
            <a:srgbClr val="c0c0c0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Нов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яр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Краснояр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1280" y="4005360"/>
            <a:ext cx="1512720" cy="1224000"/>
          </a:xfrm>
          <a:prstGeom prst="ellipse">
            <a:avLst/>
          </a:prstGeom>
          <a:solidFill>
            <a:srgbClr val="c0c0c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Медик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фармацевт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66200" y="5445000"/>
            <a:ext cx="1477800" cy="1079640"/>
          </a:xfrm>
          <a:prstGeom prst="ellipse">
            <a:avLst/>
          </a:prstGeom>
          <a:solidFill>
            <a:srgbClr val="c0c0c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доров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ита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500280"/>
            <a:ext cx="2233440" cy="2232360"/>
          </a:xfrm>
          <a:prstGeom prst="ellipse">
            <a:avLst/>
          </a:prstGeom>
          <a:solidFill>
            <a:srgbClr val="c0c0c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Газеты и журна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естны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еспубликански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такж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Природа Сибири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Охотник и рыболов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950080"/>
            <a:ext cx="309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зультат: 1 пресс-ре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ЗКОЙ ТЕМАТИКИ (!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мещён на 26 интернет-сай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907920"/>
            <a:ext cx="2305080" cy="2160720"/>
          </a:xfrm>
          <a:prstGeom prst="ellipse">
            <a:avLst/>
          </a:prstGeom>
          <a:solidFill>
            <a:srgbClr val="c0c0c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ай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ООПТ РФ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Порт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спублики Алтай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Алтай Трансграничный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елёный патрул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72360" y="1773360"/>
            <a:ext cx="863640" cy="792000"/>
          </a:xfrm>
          <a:prstGeom prst="ellipse">
            <a:avLst/>
          </a:prstGeom>
          <a:solidFill>
            <a:srgbClr val="c0c0c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333360"/>
            <a:ext cx="1728720" cy="1511280"/>
          </a:xfrm>
          <a:prstGeom prst="ellipse">
            <a:avLst/>
          </a:prstGeom>
          <a:solidFill>
            <a:srgbClr val="c0c0c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«Экологическо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и воспитани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4724280"/>
            <a:ext cx="1800000" cy="1656000"/>
          </a:xfrm>
          <a:prstGeom prst="ellipse">
            <a:avLst/>
          </a:prstGeom>
          <a:solidFill>
            <a:srgbClr val="c0c0c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тернет-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а рождени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для многоде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м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5373720"/>
            <a:ext cx="1511280" cy="1295280"/>
          </a:xfrm>
          <a:prstGeom prst="ellipse">
            <a:avLst/>
          </a:prstGeom>
          <a:solidFill>
            <a:srgbClr val="c0c0c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веточно.Р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нов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 ми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те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435640" y="2421000"/>
            <a:ext cx="504720" cy="217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556000" y="2205000"/>
            <a:ext cx="100800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339640" y="3860640"/>
            <a:ext cx="115236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4076640"/>
            <a:ext cx="576360" cy="144000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2852640"/>
            <a:ext cx="1079280" cy="935280"/>
          </a:xfrm>
          <a:prstGeom prst="ellipse">
            <a:avLst/>
          </a:prstGeom>
          <a:solidFill>
            <a:srgbClr val="c0c0c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ТР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Гор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та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16000" y="328464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4653000"/>
            <a:ext cx="1224000" cy="1081080"/>
          </a:xfrm>
          <a:prstGeom prst="ellipse">
            <a:avLst/>
          </a:prstGeom>
          <a:solidFill>
            <a:srgbClr val="c0c0c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й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повед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76720" y="4149720"/>
            <a:ext cx="5745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56720" y="3645000"/>
            <a:ext cx="287280" cy="36036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93080" y="4076640"/>
            <a:ext cx="215640" cy="144000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932360" y="3716280"/>
            <a:ext cx="1295280" cy="108108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579640" y="5373720"/>
            <a:ext cx="360360" cy="57636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524720" y="1483920"/>
            <a:ext cx="360360" cy="28908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812000" y="1916280"/>
            <a:ext cx="432000" cy="7128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372000" y="4005360"/>
            <a:ext cx="215640" cy="36036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3573360"/>
            <a:ext cx="43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20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йтинг пресс-релизов за последние 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1052640"/>
            <a:ext cx="5183280" cy="100800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На водопаде Корбу начал работу нов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зит-центр Алтайского заповедника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зместили 82 интернет-сай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2276640"/>
            <a:ext cx="6696360" cy="79200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В Алтайском заповеднике обнаружены новые виды грибов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местили 45 сай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284640"/>
            <a:ext cx="7490160" cy="71892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Алтайский заповедник стал биосферным»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местили 44 сай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292640"/>
            <a:ext cx="7704000" cy="72072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ртует экологический марафон "Энергосбережение"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 сай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5229360"/>
            <a:ext cx="8064360" cy="79200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льм «Таежный тупик» заня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сто в кинофестивале «Золотой компас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20 сай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иа-клуб, пресс-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4140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а-клуб «Заповедь без границ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 в 2010 году при Алтайском биосферном заповед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луб входят представители СМИ Республики Алтай и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период 2010-2011 гг  проведено 4 пресс-тура, один из которых организован и проведён при поддержке Всемирного фонда прир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836640"/>
            <a:ext cx="4103640" cy="55450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4105440" cy="27399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6877080" y="64533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Г.Савина, 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25360"/>
          <a:ext cx="7416720" cy="49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7416720" cy="49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5508720" y="1125360"/>
            <a:ext cx="338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2008 года - сайт Алтайского заповедника - http://altzapove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стоящее время работает 2 сайта заповедника: http://altzapoved.ru  и http://hraniteliozer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4508640"/>
            <a:ext cx="32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2010 года – создание новых Интернет-ресурсов и использование соцсетей, блогов в размещении своей информ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765000"/>
          <a:ext cx="8281800" cy="5670720"/>
        </p:xfrm>
        <a:graphic>
          <a:graphicData uri="http://schemas.openxmlformats.org/drawingml/2006/table">
            <a:tbl>
              <a:tblPr/>
              <a:tblGrid>
                <a:gridCol w="3456000"/>
                <a:gridCol w="48258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ства и бл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ww.sledmedved.ning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ообщество Друзей Алтайского заповедника «След Медвед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3"/>
                        </a:rPr>
                        <a:t>www.flickr.com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4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5"/>
                        </a:rPr>
                        <a:t>photos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6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7"/>
                        </a:rPr>
                        <a:t>altzap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Фотосайт Алтайского заповед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8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9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0"/>
                        </a:rPr>
                        <a:t>altzapoved.livejournal.com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1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Блог в Livejournal «Заповедь без границ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2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3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4"/>
                        </a:rPr>
                        <a:t>community.livejournal.com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5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6"/>
                        </a:rPr>
                        <a:t>yai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Блог «Яйлю – заповедная деревн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7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8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9"/>
                        </a:rPr>
                        <a:t>my.mail.ru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0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1"/>
                        </a:rPr>
                        <a:t>community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2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3"/>
                        </a:rPr>
                        <a:t>altzapoved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4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Друзья Алтайского заповедника – страничка сооб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Calibri"/>
                        </a:rPr>
                        <a:t>http://www.facebook.com/pages.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траничка Алтайского заповедника на Face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Calibri"/>
                        </a:rPr>
                        <a:t>http://www.youtube.com/user/altzap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Видеоблог на YouTu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Calibri"/>
                        </a:rPr>
                        <a:t>http://vkontakte.ru/album-13416172_99114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Фотоальбом в «Vkonrakte.ru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Интернет-сообществ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http://wwf-ru.livejournal.com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ообщество WW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http://eco-altai.livejournal.com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Экотуризм на Алта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http://gp-russia.livejournal.com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ообщество Гринпис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http://oopt-ru.livejournal.com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ообщество ООПТ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ли эколого-просветительской деятельност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поведников и национальных па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77756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еспечение поддержки идей заповедного дела широкими слоями населения как необходимого условия выполнения заповедниками своих природоохранных функ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йствие решению региональных эколог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в формировании экологического сознания и развития экологической культуры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11280" y="5229360"/>
          <a:ext cx="6191280" cy="1222200"/>
        </p:xfrm>
        <a:graphic>
          <a:graphicData uri="http://schemas.openxmlformats.org/drawingml/2006/table">
            <a:tbl>
              <a:tblPr/>
              <a:tblGrid>
                <a:gridCol w="6191280"/>
              </a:tblGrid>
              <a:tr h="12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 по организации и ведению эколого-просветительской деятельности государственных природных заповедниках и национальных парк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ы приказом Федеральной службы по надзору в сфере природопользования от 18.06.2007 № 17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c0c0c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28000" y="6524640"/>
            <a:ext cx="20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то – А. Гриб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и использования соцс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691920"/>
            <a:ext cx="5122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www.facebook.com/home.php?ref=h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www.linkedin.com/profile/view?id=151691822&amp;trk=tab_p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igor-kalmykov.livejournal.com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twitter.com/#!/kalmyk196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vkontakte.ru/id14451024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</a:t>
            </a:r>
            <a:r>
              <a:rPr b="1" lang="en-US" sz="1500" spc="-1" strike="noStrike" u="sng">
                <a:solidFill>
                  <a:srgbClr val="333399"/>
                </a:solidFill>
                <a:uFillTx/>
                <a:latin typeface="Arial"/>
              </a:rPr>
              <a:t>my.mail.ru|mail|kalmyk1961</a:t>
            </a: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859280" y="1413000"/>
            <a:ext cx="3960720" cy="297180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5183280" cy="385272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56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аудио-,кино и видео-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889440" cy="2593800"/>
          </a:xfrm>
          <a:prstGeom prst="rect">
            <a:avLst/>
          </a:prstGeom>
          <a:ln w="76320">
            <a:solidFill>
              <a:srgbClr val="c0c0c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0" y="836640"/>
            <a:ext cx="4211640" cy="4248000"/>
          </a:xfrm>
          <a:prstGeom prst="rect">
            <a:avLst/>
          </a:prstGeom>
          <a:ln w="76320">
            <a:solidFill>
              <a:srgbClr val="c0c0c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3889440" cy="2832120"/>
          </a:xfrm>
          <a:prstGeom prst="rect">
            <a:avLst/>
          </a:prstGeom>
          <a:ln w="76320">
            <a:solidFill>
              <a:srgbClr val="c0c0c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4500720" y="5300640"/>
            <a:ext cx="431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2007 года по 2011 год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 фото-видео-экспеди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я сбора материалов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6308640"/>
            <a:ext cx="45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вторы фото: И.Долгов, В.Кантор, П.Фил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аудио-,кино и видео-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68680" cy="540072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716360" y="5445000"/>
            <a:ext cx="4249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2007 года по 2011 год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 видеофиль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видео-рол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76720" y="620640"/>
            <a:ext cx="3649680" cy="45370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2268360" y="5950080"/>
            <a:ext cx="56898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16572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ортале «Вся Россия» - 7 фильмов и 4 сюжета Алтайского заповедника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://www.allrussiatv.ru/altai-republic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32720" y="5157720"/>
            <a:ext cx="22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на обложке -С.Ивой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аудио-,кино и видео-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651640" y="1052640"/>
            <a:ext cx="2947680" cy="37432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1368360" cy="11016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64000" y="4941360"/>
            <a:ext cx="3384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10 году записана аудиокнига «Встреча ветров» (писатель -А.Малыш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4978440" cy="50403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1116000" y="602136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аудио-диск (сборник пес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5805360"/>
            <a:ext cx="22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то на обложке –И.Калм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2602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собственного брэнд-б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895560" cy="551664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 rot="453600">
            <a:off x="6084360" y="2349360"/>
            <a:ext cx="2741760" cy="388152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427640" y="1484280"/>
            <a:ext cx="2489040" cy="352584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собственного брэнд-б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240000" cy="750960"/>
          </a:xfrm>
          <a:prstGeom prst="rect">
            <a:avLst/>
          </a:prstGeom>
          <a:ln w="22320">
            <a:solidFill>
              <a:srgbClr val="0066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rot="1399200">
            <a:off x="2843280" y="2707920"/>
            <a:ext cx="3060720" cy="248760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443640" y="3213000"/>
            <a:ext cx="2316240" cy="31892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95280" y="1773360"/>
            <a:ext cx="2021040" cy="2868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1403280" y="765000"/>
            <a:ext cx="6248520" cy="1419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324000" y="4581360"/>
            <a:ext cx="2592360" cy="190836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7">
            <a:lum contrast="6000"/>
          </a:blip>
          <a:stretch/>
        </p:blipFill>
        <p:spPr>
          <a:xfrm>
            <a:off x="2411280" y="5589720"/>
            <a:ext cx="3816360" cy="8823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7128000" y="64533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кламно-издатель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300720" y="836640"/>
            <a:ext cx="2503440" cy="3125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4734000" cy="315576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 rot="937200">
            <a:off x="6300360" y="3860280"/>
            <a:ext cx="1884600" cy="26672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203640" y="3645000"/>
            <a:ext cx="2895480" cy="28954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395280" y="907920"/>
            <a:ext cx="1190520" cy="29718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900000" y="4149720"/>
            <a:ext cx="2022480" cy="225576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7954920" y="6210360"/>
            <a:ext cx="11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Сав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19280" y="907920"/>
            <a:ext cx="4825800" cy="471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зит-пункты Алтайского запов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1800000" cy="13478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3240000" cy="25052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95280" y="4221000"/>
            <a:ext cx="2016000" cy="15116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395280" y="2276640"/>
            <a:ext cx="158292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ртыбаш, 2008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80360" y="6165720"/>
            <a:ext cx="93492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ел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5734080"/>
            <a:ext cx="143964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аган, 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0920" y="1484280"/>
            <a:ext cx="144720" cy="2160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771640" y="1413000"/>
            <a:ext cx="936720" cy="3603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2842920" y="2060280"/>
            <a:ext cx="2592360" cy="3603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059280" y="2708280"/>
            <a:ext cx="2233440" cy="14414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484360" y="4653000"/>
            <a:ext cx="792360" cy="2160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56360" y="3645000"/>
            <a:ext cx="144000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бу, 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5508720" y="765000"/>
            <a:ext cx="2835360" cy="28720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3276720" y="692280"/>
            <a:ext cx="1728720" cy="12952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58" name=""/>
          <p:cNvSpPr/>
          <p:nvPr/>
        </p:nvSpPr>
        <p:spPr>
          <a:xfrm>
            <a:off x="3492360" y="1989000"/>
            <a:ext cx="1295640" cy="21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йлю, 200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6381720"/>
            <a:ext cx="216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С.Щигрева, Е.Шич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47640" y="64533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3640" y="188640"/>
            <a:ext cx="4681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спективы создания един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евого экотура- «трансформер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 rot="6353400">
            <a:off x="193680" y="1758960"/>
            <a:ext cx="2911680" cy="23623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50920" y="1341360"/>
            <a:ext cx="2879640" cy="3456000"/>
          </a:xfrm>
          <a:prstGeom prst="flowChartConnector">
            <a:avLst/>
          </a:prstGeom>
          <a:noFill/>
          <a:ln w="63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89000"/>
            <a:ext cx="2303280" cy="936360"/>
          </a:xfrm>
          <a:prstGeom prst="rect">
            <a:avLst/>
          </a:prstGeom>
          <a:solidFill>
            <a:srgbClr val="c0c0c0">
              <a:alpha val="12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ЗАПОВЕ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 ГРАНИЦ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1341360"/>
            <a:ext cx="1214280" cy="432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2060640"/>
            <a:ext cx="1214280" cy="43164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416600">
            <a:off x="2987280" y="3068640"/>
            <a:ext cx="1152720" cy="43164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59280" y="981000"/>
            <a:ext cx="1944360" cy="72072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Яйлинская терраса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Гора Чичелга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1280" y="2133720"/>
            <a:ext cx="1944720" cy="50472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одопад Кокш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4149720"/>
            <a:ext cx="2017800" cy="50472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Белинская террас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3800">
            <a:off x="2842920" y="3789360"/>
            <a:ext cx="1152360" cy="43164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3800">
            <a:off x="2484360" y="4508640"/>
            <a:ext cx="1228680" cy="488880"/>
          </a:xfrm>
          <a:custGeom>
            <a:avLst/>
            <a:gdLst>
              <a:gd name="textAreaLeft" fmla="*/ 214920 w 1228680"/>
              <a:gd name="textAreaRight" fmla="*/ 891000 w 1228680"/>
              <a:gd name="textAreaTop" fmla="*/ 65520 h 488880"/>
              <a:gd name="textAreaBottom" fmla="*/ 42336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35280" y="5084640"/>
            <a:ext cx="1657440" cy="57636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одопад Уча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3141720"/>
            <a:ext cx="1944720" cy="57636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одопады Баско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012000" y="2997360"/>
            <a:ext cx="1366560" cy="102852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8028000" y="35733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8172360" y="3357720"/>
            <a:ext cx="360360" cy="30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979640" y="5950080"/>
            <a:ext cx="2665440" cy="71892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, дополнитель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автомоби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азырыкские курга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380360" y="3500280"/>
            <a:ext cx="447480" cy="574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7380360" y="3068640"/>
            <a:ext cx="585720" cy="392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 rot="1152600">
            <a:off x="7884720" y="3212640"/>
            <a:ext cx="29700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rot="698400">
            <a:off x="2050560" y="46526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64000" y="3789360"/>
            <a:ext cx="43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9">
            <a:lum contrast="12000"/>
          </a:blip>
          <a:stretch/>
        </p:blipFill>
        <p:spPr>
          <a:xfrm>
            <a:off x="5364000" y="5373720"/>
            <a:ext cx="1800360" cy="127008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10"/>
          <a:stretch/>
        </p:blipFill>
        <p:spPr>
          <a:xfrm>
            <a:off x="7236000" y="5589720"/>
            <a:ext cx="448920" cy="576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1"/>
          <a:stretch/>
        </p:blipFill>
        <p:spPr>
          <a:xfrm>
            <a:off x="8317080" y="5516640"/>
            <a:ext cx="241200" cy="431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2">
            <a:lum contrast="12000"/>
          </a:blip>
          <a:stretch/>
        </p:blipFill>
        <p:spPr>
          <a:xfrm>
            <a:off x="324000" y="5300640"/>
            <a:ext cx="1584000" cy="106380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sp>
        <p:nvSpPr>
          <p:cNvPr id="288" name=""/>
          <p:cNvSpPr/>
          <p:nvPr/>
        </p:nvSpPr>
        <p:spPr>
          <a:xfrm>
            <a:off x="5508720" y="472428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3">
            <a:lum contrast="12000"/>
          </a:blip>
          <a:stretch/>
        </p:blipFill>
        <p:spPr>
          <a:xfrm>
            <a:off x="5867280" y="1989000"/>
            <a:ext cx="1441440" cy="95580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sp>
        <p:nvSpPr>
          <p:cNvPr id="290" name=""/>
          <p:cNvSpPr/>
          <p:nvPr/>
        </p:nvSpPr>
        <p:spPr>
          <a:xfrm>
            <a:off x="4716360" y="5734080"/>
            <a:ext cx="574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2637000"/>
            <a:ext cx="4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27640" y="170028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4">
            <a:lum contrast="12000"/>
          </a:blip>
          <a:stretch/>
        </p:blipFill>
        <p:spPr>
          <a:xfrm>
            <a:off x="5003640" y="836640"/>
            <a:ext cx="1729080" cy="114948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15">
            <a:lum contrast="12000"/>
          </a:blip>
          <a:stretch/>
        </p:blipFill>
        <p:spPr>
          <a:xfrm>
            <a:off x="6012000" y="4076640"/>
            <a:ext cx="1439640" cy="107784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16"/>
          <a:stretch/>
        </p:blipFill>
        <p:spPr>
          <a:xfrm>
            <a:off x="7667640" y="580536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7"/>
          <a:stretch/>
        </p:blipFill>
        <p:spPr>
          <a:xfrm>
            <a:off x="7740720" y="5445000"/>
            <a:ext cx="504720" cy="427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8"/>
          <a:stretch/>
        </p:blipFill>
        <p:spPr>
          <a:xfrm>
            <a:off x="7308720" y="2349360"/>
            <a:ext cx="447840" cy="574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9"/>
          <a:stretch/>
        </p:blipFill>
        <p:spPr>
          <a:xfrm>
            <a:off x="7812000" y="2421000"/>
            <a:ext cx="360360" cy="304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0"/>
          <a:stretch/>
        </p:blipFill>
        <p:spPr>
          <a:xfrm>
            <a:off x="8172360" y="234936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1"/>
          <a:stretch/>
        </p:blipFill>
        <p:spPr>
          <a:xfrm rot="1152600">
            <a:off x="8101080" y="2133360"/>
            <a:ext cx="241200" cy="431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2"/>
          <a:stretch/>
        </p:blipFill>
        <p:spPr>
          <a:xfrm>
            <a:off x="6804000" y="1341360"/>
            <a:ext cx="447840" cy="574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3"/>
          <a:stretch/>
        </p:blipFill>
        <p:spPr>
          <a:xfrm>
            <a:off x="6804000" y="981000"/>
            <a:ext cx="360360" cy="304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4"/>
          <a:stretch/>
        </p:blipFill>
        <p:spPr>
          <a:xfrm>
            <a:off x="7236000" y="119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5"/>
          <a:stretch/>
        </p:blipFill>
        <p:spPr>
          <a:xfrm rot="1152600">
            <a:off x="7667280" y="907560"/>
            <a:ext cx="241200" cy="43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6"/>
          <a:stretch/>
        </p:blipFill>
        <p:spPr>
          <a:xfrm>
            <a:off x="7451640" y="4508640"/>
            <a:ext cx="447840" cy="5745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7"/>
          <a:stretch/>
        </p:blipFill>
        <p:spPr>
          <a:xfrm>
            <a:off x="7885080" y="4508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8"/>
          <a:stretch/>
        </p:blipFill>
        <p:spPr>
          <a:xfrm>
            <a:off x="8244000" y="4797360"/>
            <a:ext cx="360360" cy="304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9"/>
          <a:stretch/>
        </p:blipFill>
        <p:spPr>
          <a:xfrm>
            <a:off x="8244000" y="436572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0"/>
          <a:stretch/>
        </p:blipFill>
        <p:spPr>
          <a:xfrm rot="1152600">
            <a:off x="8675280" y="4365360"/>
            <a:ext cx="162000" cy="288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1"/>
          <a:stretch/>
        </p:blipFill>
        <p:spPr>
          <a:xfrm>
            <a:off x="7308720" y="981000"/>
            <a:ext cx="360360" cy="2764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2"/>
          <a:stretch/>
        </p:blipFill>
        <p:spPr>
          <a:xfrm>
            <a:off x="8532720" y="3213000"/>
            <a:ext cx="360360" cy="2764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3"/>
          <a:srcRect l="1332" t="0" r="38660" b="23190"/>
          <a:stretch/>
        </p:blipFill>
        <p:spPr>
          <a:xfrm>
            <a:off x="8532720" y="3573360"/>
            <a:ext cx="358920" cy="308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4"/>
          <a:srcRect l="1332" t="0" r="38660" b="23190"/>
          <a:stretch/>
        </p:blipFill>
        <p:spPr>
          <a:xfrm>
            <a:off x="8604360" y="4724280"/>
            <a:ext cx="358560" cy="308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11280" y="2421000"/>
            <a:ext cx="1081080" cy="1728720"/>
          </a:xfrm>
          <a:prstGeom prst="rect">
            <a:avLst/>
          </a:prstGeom>
          <a:solidFill>
            <a:srgbClr val="bbe0e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льцево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тур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зволи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сетит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разу вс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иродные 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торико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ультур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повед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414000">
            <a:off x="1332000" y="184428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35280" y="191628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625600">
            <a:off x="2196000" y="2203920"/>
            <a:ext cx="360360" cy="289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244000">
            <a:off x="2159640" y="2672640"/>
            <a:ext cx="360360" cy="288720"/>
          </a:xfrm>
          <a:custGeom>
            <a:avLst/>
            <a:gdLst>
              <a:gd name="textAreaLeft" fmla="*/ 0 w 360360"/>
              <a:gd name="textAreaRight" fmla="*/ 360720 w 360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4728000">
            <a:off x="2159640" y="3609000"/>
            <a:ext cx="360360" cy="288720"/>
          </a:xfrm>
          <a:custGeom>
            <a:avLst/>
            <a:gdLst>
              <a:gd name="textAreaLeft" fmla="*/ 0 w 360360"/>
              <a:gd name="textAreaRight" fmla="*/ 360720 w 360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4591800">
            <a:off x="2088000" y="3103920"/>
            <a:ext cx="360360" cy="289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169000">
            <a:off x="2232360" y="4111920"/>
            <a:ext cx="360360" cy="289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908000" y="2491920"/>
            <a:ext cx="0" cy="2016360"/>
          </a:xfrm>
          <a:prstGeom prst="line">
            <a:avLst/>
          </a:prstGeom>
          <a:ln w="604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755280" y="1844280"/>
            <a:ext cx="1150920" cy="576360"/>
          </a:xfrm>
          <a:prstGeom prst="line">
            <a:avLst/>
          </a:prstGeom>
          <a:ln w="604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2123600">
            <a:off x="1763280" y="4508280"/>
            <a:ext cx="360360" cy="288720"/>
          </a:xfrm>
          <a:custGeom>
            <a:avLst/>
            <a:gdLst>
              <a:gd name="textAreaLeft" fmla="*/ 0 w 360360"/>
              <a:gd name="textAreaRight" fmla="*/ 360720 w 360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етители Алтайского заповедника 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зит-центров/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5292720" y="907920"/>
          <a:ext cx="4211640" cy="36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907920"/>
                    <a:ext cx="421164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0" y="1125360"/>
          <a:ext cx="5224320" cy="350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224320" cy="35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18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042920" y="2708280"/>
          <a:ext cx="48960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2708280"/>
                    <a:ext cx="48960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направления эколого-просветительской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тельности заповедников и национальных па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96788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действие со средствами массовой информации (С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кламно-издатель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аудио-, кино- и видео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ейное дело и организация информационных центров для посет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логические 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со школь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действие с педагогами образовательных учреждений и органами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логические праздники и 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, информационное и техническое сопровождение Интернет-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института волонтёров для работы в заповед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95640" y="5157720"/>
          <a:ext cx="6191280" cy="1366920"/>
        </p:xfrm>
        <a:graphic>
          <a:graphicData uri="http://schemas.openxmlformats.org/drawingml/2006/table">
            <a:tbl>
              <a:tblPr/>
              <a:tblGrid>
                <a:gridCol w="6191280"/>
              </a:tblGrid>
              <a:tr h="13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 по организации и ведению эколого-просветительской деятельности государственных природных заповедниках и национальных парк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ы приказом Федеральной службы по надзору в сфере природопользования от 18.06.2007 № 17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c0c0c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6920" y="1267920"/>
            <a:ext cx="43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цкая школ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ко-юношеского экоту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255096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3419640" cy="229572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graphicFrame>
        <p:nvGraphicFramePr>
          <p:cNvPr id="340" name=""/>
          <p:cNvGraphicFramePr/>
          <p:nvPr/>
        </p:nvGraphicFramePr>
        <p:xfrm>
          <a:off x="3708360" y="2276640"/>
          <a:ext cx="5040360" cy="331272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</a:tblGrid>
              <a:tr h="110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Путь Воина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патриотическое и гражданское воспи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99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99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Алые паруса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заповедный яхт-кл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999999"/>
                      </a:solidFill>
                    </a:lnR>
                    <a:lnT w="31680">
                      <a:solidFill>
                        <a:srgbClr val="99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Лесные Робинзоны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- оздоровление и реабили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99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Школа юного экскурсов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Тропа Здоров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99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Тропа Алтын-Кёля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эколог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99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Над Озер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эколого-исследовате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99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492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Берендеи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- эколого-волонтёрская пр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999999"/>
                      </a:solidFill>
                    </a:lnL>
                    <a:lnR w="3168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31680">
                      <a:solidFill>
                        <a:srgbClr val="99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0" y="4627440"/>
            <a:ext cx="3456000" cy="22305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435640" y="0"/>
            <a:ext cx="1544760" cy="1628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788000" y="580536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raniteliozer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48360" y="6453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то – Е.Весел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1" descr="флаг1"/>
          <p:cNvPicPr/>
          <p:nvPr/>
        </p:nvPicPr>
        <p:blipFill>
          <a:blip r:embed="rId1"/>
          <a:stretch/>
        </p:blipFill>
        <p:spPr>
          <a:xfrm>
            <a:off x="-181080" y="0"/>
            <a:ext cx="9468000" cy="6858000"/>
          </a:xfrm>
          <a:prstGeom prst="rect">
            <a:avLst/>
          </a:prstGeom>
          <a:ln w="34920">
            <a:solidFill>
              <a:srgbClr val="bbe0e3"/>
            </a:solidFill>
            <a:miter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555640" y="475920"/>
            <a:ext cx="4824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979640" y="5270400"/>
            <a:ext cx="6875280" cy="1490040"/>
          </a:xfrm>
          <a:prstGeom prst="rect">
            <a:avLst/>
          </a:prstGeom>
          <a:solidFill>
            <a:srgbClr val="ffffff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Наш адрес: 649000  Республика Алта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г. Горно-Алтайск,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ер. Набережный- 1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а/я 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Алтайский государственный природный биосферный заповедни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(388-22) 2-14-19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E-mail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2"/>
              </a:rPr>
              <a:t>agpzmain@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3"/>
              </a:rPr>
              <a:t>mail.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4"/>
              </a:rPr>
              <a:t>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5"/>
              </a:rPr>
              <a:t>www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6"/>
              </a:rPr>
              <a:t>.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7"/>
              </a:rPr>
              <a:t>altzapovednik.ru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8"/>
              </a:rPr>
              <a:t>altzapoved.ru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9"/>
              </a:rPr>
              <a:t>sledmedved.ning.com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95280" y="1557360"/>
          <a:ext cx="8362800" cy="5025960"/>
        </p:xfrm>
        <a:graphic>
          <a:graphicData uri="http://schemas.openxmlformats.org/drawingml/2006/table">
            <a:tbl>
              <a:tblPr/>
              <a:tblGrid>
                <a:gridCol w="2698920"/>
                <a:gridCol w="241200"/>
                <a:gridCol w="2576520"/>
                <a:gridCol w="241200"/>
                <a:gridCol w="2604960"/>
              </a:tblGrid>
              <a:tr h="13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ное на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жители заповедных посёлков, кордонов, прилегающих  к ООПТ поселений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публик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та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истерств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едом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у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Собра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 Курултай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посел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ический бизне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урбазы, частные извозчики на Телецком озере, владельцы сельских «зелёных» дом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х районов и сельских посел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Н Алтая -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нных малочисленны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ов Алт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3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объ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орное Партнёрство)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ы Друзей Алтайского заповедн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массовой информац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го уров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охранительные и природоохранные структур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и Алтай (Прокуратура, МВД, Рыбнадзор и др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419640" y="1125360"/>
            <a:ext cx="23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евые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тайский заповедник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и с общественностью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тайский заповедник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язи с общественностью (PR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0000" y="2852640"/>
          <a:ext cx="7416720" cy="36432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36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11 г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деятельность Общественных Советов (пос. Яйлю, Беле, Совет Телецкого озер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соглашений и договоров о сотрудничестве (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семинаров, тренингов, мастер-классов, направленных на вовлечение населения в альтернативную браконьерству деятельность (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ирование, разработка и реализация совместных проектов 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обустройство рабочих мест в сфере экологического туризма (водопад Корбу – 20 рабочих ме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сельского «зелёного» туризма в заповедных посёлках (50-60 ме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работа клубов Друзей Алтайского заповедника 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411280" y="1125360"/>
          <a:ext cx="3961080" cy="79092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и взаимодей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целевыми групп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140360" y="1916280"/>
            <a:ext cx="502920" cy="934920"/>
          </a:xfrm>
          <a:custGeom>
            <a:avLst/>
            <a:gdLst>
              <a:gd name="textAreaLeft" fmla="*/ 0 w 502920"/>
              <a:gd name="textAreaRight" fmla="*/ 503280 w 50292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c0c0c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посредственно на территории заповедника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полагается 2 посёлка. С 2007 года здесь созданы Общественные Сов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1600200"/>
            <a:ext cx="463536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5809" t="0" r="0" b="0"/>
          <a:stretch/>
        </p:blipFill>
        <p:spPr>
          <a:xfrm>
            <a:off x="5003640" y="836640"/>
            <a:ext cx="3730680" cy="27385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3727440" cy="25718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1258920" y="2060640"/>
            <a:ext cx="3673440" cy="288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402920" y="3357720"/>
            <a:ext cx="3529080" cy="129528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3213000"/>
            <a:ext cx="8524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й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85080" y="6021360"/>
            <a:ext cx="86364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89000"/>
            <a:ext cx="4510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управление на местном уро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ственные Со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950080"/>
            <a:ext cx="3810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зоне сотрудничеств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дминистративные посел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очак, Артыбаш, Иогач, Улаган, Балыкча, Коо, Язу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23880"/>
            <a:ext cx="1066680" cy="22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тыб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743200"/>
            <a:ext cx="762120" cy="22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ог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800600"/>
            <a:ext cx="1066680" cy="22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а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2349360"/>
            <a:ext cx="72072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й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3213000"/>
            <a:ext cx="72072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е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3500280"/>
            <a:ext cx="936720" cy="2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лык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5445000"/>
            <a:ext cx="72108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з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4076640"/>
            <a:ext cx="57456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77080" y="64533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А.Лотов, 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7760" y="32000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ред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2666880" cy="167652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Алтай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государственны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природ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запове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3284640"/>
            <a:ext cx="2743200" cy="129528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Телецкое общ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охо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и рыболо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200400"/>
            <a:ext cx="2743200" cy="129528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Сельский Со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депу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Артыбаш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сель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341360"/>
            <a:ext cx="2728800" cy="162900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Партнё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по соц-э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развит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прителец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5029200"/>
            <a:ext cx="2438280" cy="121932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Некоммер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Партнё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«Ори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1600200"/>
            <a:ext cx="2667240" cy="114300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Со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депут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Улага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4952880"/>
            <a:ext cx="2743200" cy="129564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Союз общ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Турочак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«Б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4941720"/>
            <a:ext cx="2743200" cy="129564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Физические лиц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жители сё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Иогач и Артыб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47520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вет Телецкого озе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907920"/>
            <a:ext cx="23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 в 2009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 взаимодействия с местным население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ритория сотрудни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35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методическая поддерж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а по развитию экотуризма, Улаганский район (строительство и оформление визит-центра, укрепление туристической инфраструктуры местных жителей-предпринима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фере туриз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грантовских заявок жителей пос. Яйлю (конкурс микрокредитован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3743280" cy="280800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427640" y="3213000"/>
            <a:ext cx="4032000" cy="29703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684360" y="5445000"/>
            <a:ext cx="23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екты реализова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ддерж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ОН/ГЭФ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6237360"/>
            <a:ext cx="4032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гация Международного Центра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ных территорий (Непал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ает визит-центр в Улагане, 2011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59640" y="2852640"/>
            <a:ext cx="223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И.Калмы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пад Корбу – пример сотрудничест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о-туристический объект в заповедн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0" y="1197000"/>
            <a:ext cx="4343400" cy="32576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50920" y="1413000"/>
            <a:ext cx="4114800" cy="308592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допад ежегодно посещает от 25-ти до 32-х тысяч туристов. Организация посещения и сервиса на территории водопада должна отвечать всем природоохранным требованиям. Была необходима соответствующая инфраструктура смотровой площадки (2007-2008 г). В рамках проекта ПРООН/ГЭФ (НП «Орион») разработан проект-эскиз площадки (2007 г), создана инфраструктура в 2008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4508640"/>
            <a:ext cx="312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чее совещание на объек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581360"/>
            <a:ext cx="35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отровая площадка «Водопад Корб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48360" y="6453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33:23Z</dcterms:created>
  <dc:creator>SamLab.ws</dc:creator>
  <dc:description/>
  <dc:language>en-US</dc:language>
  <cp:lastModifiedBy>SamLab.ws</cp:lastModifiedBy>
  <dcterms:modified xsi:type="dcterms:W3CDTF">2011-11-11T09:15:06Z</dcterms:modified>
  <cp:revision>1644</cp:revision>
  <dc:subject/>
  <dc:title>Слайд 1</dc:title>
</cp:coreProperties>
</file>